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763-BACA-4FBB-B3D8-F7C5261E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DD3-68EC-4686-B160-7C7EFC9F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F60-9B48-459D-A31D-21B04F69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D89-58C5-4D18-9267-72F5788F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1B0-7BA5-420B-AD68-190C5880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15C-052D-4FF4-815E-2543A0F0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A01-D5A4-405A-9B5F-8FBFFDA1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8C4-9813-4313-9B28-C9A2FEC3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B4F-1758-4BDC-873B-9385609A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107-888C-45B2-A402-5AA7E598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0F8-E768-49C3-8D9B-404A87D3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6FE-9F94-4F87-BA1C-57F389CC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2651-DED3-4DE5-B5C1-772A58D1D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5280" cy="604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кружающий мир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тениеводство в нашем кра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40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екой древности первобытный человек занимался охотой и собирательством. Ведь для того, чтобы жить , человеку надо есть. Успех охоты и собирательства во многом зависел от капризов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однажды женщины заметили, что в том месте, где обычно на каменной терке перетирали зерна. Выросли колоски с такими же зернами. Они догадались, что это проросли случайно рассыпанные зернышки. Попробовали специально рассыпать зерно – получилось, да еще как: где упало зерно, вырос целый колос, а то и несколько. Теперь уже можно выращивать зерна рядом с домом. А не бродить в поисках по лесам и лугам. Случалось так. Что мужчины. Убив на охоте дикую свинью. Приносили домой поросят. Детенышей помещали в пригон, кормили их, растили. Так возникли земледелие и ското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и годы, совершенствовался человек, совершенствовалось земледелие, все разнообразнее становились растения, которые выращивал человек. Вырастить хороший урожай – дело не простое, для этого очень много надо знать. Знать, когда пахать землю. Когда сажать. Поливать. Что необходимо растениям для хорошего роста. Когда убирать созревшие пл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азведение  культурных сельскохозяйственных растений и их выращивание отвечает растение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337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еводство – наука о разведении культурных сельскохозяйственных растений, а  также само такое ра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Organization Chart 5"/>
          <p:cNvGrpSpPr/>
          <p:nvPr/>
        </p:nvGrpSpPr>
        <p:grpSpPr>
          <a:xfrm>
            <a:off x="395280" y="189000"/>
            <a:ext cx="8228880" cy="6262920"/>
            <a:chOff x="395280" y="189000"/>
            <a:chExt cx="8228880" cy="6262920"/>
          </a:xfrm>
        </p:grpSpPr>
        <p:cxnSp>
          <p:nvCxnSpPr>
            <p:cNvPr id="46" name="_s1028"/>
            <p:cNvCxnSpPr>
              <a:stCxn id="47" idx="3"/>
              <a:endCxn id="48" idx="2"/>
            </p:cNvCxnSpPr>
            <p:nvPr/>
          </p:nvCxnSpPr>
          <p:spPr>
            <a:xfrm flipV="1">
              <a:off x="4098240" y="1753920"/>
              <a:ext cx="411840" cy="156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4383360" y="187956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V="1">
              <a:off x="4509360" y="1753920"/>
              <a:ext cx="3240" cy="31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H="1" flipV="1" rot="5400000">
              <a:off x="1503360" y="187992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275280" y="18900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стениевод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вощ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327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лод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615564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вет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1629360" y="253764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еводство – это выращивание поле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ощеводство – это выращивание овощ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доводство – это выращивание плодо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водство – это выращивание цветоч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202"/>
          <p:cNvPicPr/>
          <p:nvPr/>
        </p:nvPicPr>
        <p:blipFill>
          <a:blip r:embed="rId1"/>
          <a:stretch/>
        </p:blipFill>
        <p:spPr>
          <a:xfrm>
            <a:off x="468360" y="1628640"/>
            <a:ext cx="7975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203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mg20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205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7:21:17Z</dcterms:created>
  <dc:creator>User</dc:creator>
  <dc:description/>
  <dc:language>en-US</dc:language>
  <cp:lastModifiedBy>Owner</cp:lastModifiedBy>
  <dcterms:modified xsi:type="dcterms:W3CDTF">2012-06-01T02:44:25Z</dcterms:modified>
  <cp:revision>9</cp:revision>
  <dc:subject/>
  <dc:title>4 класс Окружающий мир. Растениеводство в нашем крае.</dc:title>
</cp:coreProperties>
</file>